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BB004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TOKYO_5FGREEN_5F82BPM.WAV" ContentType="audio/x-wav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FD4-C75D-4E74-8D18-02CC6961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066-54B8-4736-8BB0-27FF44A1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541-5A60-44F9-9A4A-498FC2DF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DE8-EC5F-4C56-BF6C-3D3087F9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269E-8F2A-4BB3-9A81-99BA7B87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9F05-3623-4AE6-A759-650C71AB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CF82-99E1-420D-AE35-AD4A5DF9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21CB-19D3-41A7-8FF1-D2E7924E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4BDA-9893-42C9-8FEC-1CE50F1B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9261-F1D3-4CB5-9D64-77C6FE9F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8643-E29E-4AB0-BA71-B6C89E5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443-8932-4518-9512-F9A395A2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B2DC-D73C-48FA-B132-4DE02BD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BFB4-9F64-4A22-9BC8-BD0E9DD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17EC-8810-4D95-B424-E966F6E7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316-2899-4BFD-8A13-EF7F284C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9929-8ED8-4315-A65B-282A85A5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03C-447E-4B9A-B570-06F8E916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544-48C4-41D9-BEFA-83EDD596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A08-4DD9-4F86-A4AC-B9FCC3AB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C91-32AF-4EB7-AFBF-27282C3C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D6E-4457-46D9-8B36-E459A708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361-A370-4F69-BF16-7B37A2E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56D-C3D6-4E2B-8C46-A6A15673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777D-C0A0-45F7-B38D-E652444E6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F59D-FB24-4AC9-977B-A50861C8E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B004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audio" Target="../media/BB004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4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4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4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4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4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4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4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OKYO_5FGREEN_5F82BPM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4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4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BB004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4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audio" Target="../media/BB004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BB004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audio" Target="../media/BB004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audio" Target="../media/BB004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716280"/>
            <a:ext cx="9144000" cy="2349720"/>
          </a:xfrm>
          <a:prstGeom prst="rect">
            <a:avLst/>
          </a:prstGeom>
          <a:gradFill rotWithShape="0">
            <a:gsLst>
              <a:gs pos="0">
                <a:srgbClr val="ffffff">
                  <a:alpha val="45098"/>
                </a:srgbClr>
              </a:gs>
              <a:gs pos="50000">
                <a:srgbClr val="993300">
                  <a:alpha val="76078"/>
                </a:srgbClr>
              </a:gs>
              <a:gs pos="100000">
                <a:srgbClr val="ffffff">
                  <a:alpha val="4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00280"/>
            <a:ext cx="9144000" cy="1584360"/>
          </a:xfrm>
          <a:prstGeom prst="rect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50000">
                <a:srgbClr val="993300">
                  <a:alpha val="69019"/>
                </a:srgbClr>
              </a:gs>
              <a:gs pos="100000">
                <a:srgbClr val="ffffff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2881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9600" spc="-1" strike="noStrike">
                <a:solidFill>
                  <a:srgbClr val="cccc00"/>
                </a:solidFill>
                <a:latin typeface="Angsana New"/>
                <a:cs typeface="KodchiangUPC"/>
              </a:rPr>
              <a:t>บทที่ </a:t>
            </a:r>
            <a:r>
              <a:rPr b="1" i="1" lang="en-US" sz="9600" spc="-1" strike="noStrike">
                <a:solidFill>
                  <a:srgbClr val="cccc00"/>
                </a:solidFill>
                <a:latin typeface="Angsana New"/>
                <a:ea typeface="KodchiangUPC"/>
              </a:rPr>
              <a:t>3</a:t>
            </a:r>
            <a:endParaRPr b="0" lang="en-US" sz="9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26560" y="4005360"/>
            <a:ext cx="6985080" cy="201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200" spc="-1" strike="noStrike">
                <a:solidFill>
                  <a:srgbClr val="dceaae"/>
                </a:solidFill>
                <a:latin typeface="Arial"/>
                <a:cs typeface="LilyUPC"/>
              </a:rPr>
              <a:t>เฟสและเฟสเซอร์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blinds dir="vert"/>
    <p:sndAc>
      <p:stSnd>
        <p:snd r:embed="rId2" name="BB00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2880" y="476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5000"/>
                </a:solidFill>
                <a:latin typeface="Angsana New"/>
                <a:cs typeface="LilyUPC"/>
              </a:rPr>
              <a:t>รูปคลื่นไซน์มีเฟสเลื่อน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720" y="4508640"/>
            <a:ext cx="30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เฟสเลื่อนล้าหลั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35280" y="5300640"/>
                <a:ext cx="27529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ω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771640" y="1628640"/>
            <a:ext cx="4464360" cy="280836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30000">
    <p:blinds dir="vert"/>
    <p:sndAc>
      <p:stSnd>
        <p:snd r:embed="rId4" name="BB004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005000"/>
                </a:solidFill>
                <a:latin typeface="Angsana New"/>
                <a:cs typeface="KodchiangUPC"/>
              </a:rPr>
              <a:t>เฟสเซอร์ไดอะแกรม</a:t>
            </a:r>
            <a:endParaRPr b="0" lang="en-US" sz="4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19280" y="2276280"/>
            <a:ext cx="7128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ฟสเซอร์ไดอะแกรม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Phasors Diagram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แผนภาพเฟสเซอร์ เป็นการใช้เวกเตอร์เพื่อเขียนแทนสัญญาณไฟฟ้ากระแสสลับ ที่มีขนาดคงที่และความเร็วเชิงมุมคงที่ เส้นตรงและหัวลูกศรหนึ่งเส้นแทนปริมาณไฟฟ้าหนึ่งสัญญา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เซอร์ไดอะแกร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blinds dir="vert"/>
    <p:sndAc>
      <p:stSnd>
        <p:snd r:embed="rId3" name="BB004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6000" y="4365720"/>
            <a:ext cx="7286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5000"/>
                </a:solidFill>
                <a:latin typeface="Arial"/>
                <a:cs typeface="LilyUPC"/>
              </a:rPr>
              <a:t>รูปเฟสเซอร์ไดอะแกรม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68360" y="3716280"/>
            <a:ext cx="34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, I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ฟสเหมือนกั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6360" y="3645000"/>
            <a:ext cx="48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I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มีเฟสนำหน้า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ป็นมุม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เซอร์ไดอะแกร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29242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924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29280" y="2235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5440" y="2205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2924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580000" y="2133720"/>
            <a:ext cx="1368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32920" y="1484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72160" y="2637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2492280"/>
            <a:ext cx="144360" cy="360360"/>
          </a:xfrm>
          <a:custGeom>
            <a:avLst/>
            <a:gdLst>
              <a:gd name="textAreaLeft" fmla="*/ 0 w 144360"/>
              <a:gd name="textAreaRight" fmla="*/ 101160 w 144360"/>
              <a:gd name="textAreaTop" fmla="*/ 85320 h 360360"/>
              <a:gd name="textAreaBottom" fmla="*/ 275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122"/>
                  <a:pt x="21600" y="10244"/>
                </a:cubicBezTo>
                <a:lnTo>
                  <a:pt x="21600" y="11356"/>
                </a:lnTo>
                <a:cubicBezTo>
                  <a:pt x="21600" y="16478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15160" y="24922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blinds dir="vert"/>
    <p:sndAc>
      <p:stSnd>
        <p:snd r:embed="rId3" name="BB004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4869000"/>
            <a:ext cx="8115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5000"/>
                </a:solidFill>
                <a:latin typeface="Arial"/>
                <a:cs typeface="LilyUPC"/>
              </a:rPr>
              <a:t>รูปเฟสเซอร์ไดอะแกรม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6920" y="4292640"/>
            <a:ext cx="49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I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มีเฟสล้าหลั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ป็นมุม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45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32080" y="4149720"/>
            <a:ext cx="576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I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มีเฟสนำหน้า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ป็นมุม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20°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แล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มีเฟสล้าหลั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ป็นมุม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63920" y="4376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35200" y="4808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เซอร์ไดอะแกร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24000" y="21337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24000" y="234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2349360"/>
            <a:ext cx="11509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00360" y="2349360"/>
            <a:ext cx="216000" cy="432000"/>
          </a:xfrm>
          <a:custGeom>
            <a:avLst/>
            <a:gdLst>
              <a:gd name="textAreaLeft" fmla="*/ 0 w 216000"/>
              <a:gd name="textAreaRight" fmla="*/ 151560 w 216000"/>
              <a:gd name="textAreaTop" fmla="*/ 102240 h 432000"/>
              <a:gd name="textAreaBottom" fmla="*/ 3297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122"/>
                  <a:pt x="21600" y="10244"/>
                </a:cubicBezTo>
                <a:lnTo>
                  <a:pt x="21600" y="11356"/>
                </a:lnTo>
                <a:cubicBezTo>
                  <a:pt x="21600" y="16478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43160" y="227664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00520" y="213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29280" y="3141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249228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508720" y="1916280"/>
            <a:ext cx="1295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08720" y="2492280"/>
            <a:ext cx="718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 rot="1087200">
            <a:off x="5940000" y="2565000"/>
            <a:ext cx="360360" cy="576000"/>
          </a:xfrm>
          <a:custGeom>
            <a:avLst/>
            <a:gdLst>
              <a:gd name="textAreaLeft" fmla="*/ 0 w 360360"/>
              <a:gd name="textAreaRight" fmla="*/ 252720 w 360360"/>
              <a:gd name="textAreaTop" fmla="*/ 141120 h 576000"/>
              <a:gd name="textAreaBottom" fmla="*/ 4348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296"/>
                  <a:pt x="21600" y="10591"/>
                </a:cubicBezTo>
                <a:lnTo>
                  <a:pt x="21600" y="11009"/>
                </a:lnTo>
                <a:cubicBezTo>
                  <a:pt x="21600" y="16305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27520" y="25653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43520" y="213372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72360" y="2133720"/>
            <a:ext cx="214200" cy="358560"/>
          </a:xfrm>
          <a:custGeom>
            <a:avLst/>
            <a:gdLst>
              <a:gd name="textAreaLeft" fmla="*/ 0 w 214200"/>
              <a:gd name="textAreaRight" fmla="*/ 150480 w 214200"/>
              <a:gd name="textAreaTop" fmla="*/ 84960 h 358560"/>
              <a:gd name="textAreaBottom" fmla="*/ 27360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122"/>
                  <a:pt x="21600" y="10244"/>
                </a:cubicBezTo>
                <a:lnTo>
                  <a:pt x="21600" y="11356"/>
                </a:lnTo>
                <a:cubicBezTo>
                  <a:pt x="21600" y="16478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156520" y="2276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11800" y="35733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45640" y="15573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87920" y="2492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87560" y="364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50840" y="479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blinds dir="vert"/>
    <p:sndAc>
      <p:stSnd>
        <p:snd r:embed="rId3" name="BB004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68000" y="907560"/>
            <a:ext cx="57373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005000"/>
                </a:solidFill>
                <a:latin typeface="Angsana New"/>
                <a:cs typeface="LilyUPC"/>
              </a:rPr>
              <a:t>การรวมเวกเตอร์</a:t>
            </a:r>
            <a:endParaRPr b="0" lang="en-US" sz="4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834920" y="2133720"/>
            <a:ext cx="6624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การหาขนาดและทิศทางผลลัพธ์ของเวกเตอร์ ทำได้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3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วิธี คือ ใช้วิธีต่อเวกเตอร์ ใช้สี่เหลี่ยมด้านขนานรวมเวกเตอร์ และใช้วิธีแตกเวกเตอร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>
                <a:solidFill>
                  <a:srgbClr val="005000"/>
                </a:solidFill>
                <a:latin typeface="Angsana New"/>
                <a:cs typeface="LilyUPC"/>
              </a:rPr>
              <a:t>วิธีต่อเวกเตอร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เป็นวิธีการนำปริมาณไฟฟ้าในรูปเวกเตอร์แต่ละสัญญาณมาเขียนต่อกันไป ให้ขนาดและทิศทางที่ถูกต้องของแต่ละเวกเตอร์ต่อเรียงตามลำด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การรวมเวกเตอร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blinds dir="vert"/>
    <p:sndAc>
      <p:stSnd>
        <p:snd r:embed="rId3" name="BB004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050920" y="508428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5000"/>
                </a:solidFill>
                <a:latin typeface="Angsana New"/>
                <a:cs typeface="LilyUPC"/>
              </a:rPr>
              <a:t>รูปเฟสเซอร์ ไดอะแกรมของแรงดันไฟสลับ </a:t>
            </a:r>
            <a:r>
              <a:rPr b="1" i="1" lang="th-TH" sz="3200" spc="-1" strike="noStrike">
                <a:solidFill>
                  <a:srgbClr val="005000"/>
                </a:solidFill>
                <a:latin typeface="Angsana New"/>
                <a:ea typeface="LilyUPC"/>
              </a:rPr>
              <a:t>3 </a:t>
            </a:r>
            <a:r>
              <a:rPr b="1" i="1" lang="th-TH" sz="3200" spc="-1" strike="noStrike">
                <a:solidFill>
                  <a:srgbClr val="005000"/>
                </a:solidFill>
                <a:latin typeface="Angsana New"/>
                <a:cs typeface="LilyUPC"/>
              </a:rPr>
              <a:t>สัญญาณ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การรวมเวกเตอร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1413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80000" y="2997360"/>
            <a:ext cx="35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427280" y="1699920"/>
            <a:ext cx="936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067280" y="2997360"/>
            <a:ext cx="129672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364000" y="1988640"/>
            <a:ext cx="1872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7416200">
            <a:off x="5336280" y="1974960"/>
            <a:ext cx="546120" cy="1052640"/>
          </a:xfrm>
          <a:custGeom>
            <a:avLst/>
            <a:gdLst>
              <a:gd name="textAreaLeft" fmla="*/ 0 w 546120"/>
              <a:gd name="textAreaRight" fmla="*/ 383040 w 546120"/>
              <a:gd name="textAreaTop" fmla="*/ 263160 h 1052640"/>
              <a:gd name="textAreaBottom" fmla="*/ 78948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21450000">
            <a:off x="6224400" y="2563560"/>
            <a:ext cx="291960" cy="433440"/>
          </a:xfrm>
          <a:custGeom>
            <a:avLst/>
            <a:gdLst>
              <a:gd name="textAreaLeft" fmla="*/ 0 w 291960"/>
              <a:gd name="textAreaRight" fmla="*/ 204840 w 29196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4922000">
            <a:off x="4838760" y="1509840"/>
            <a:ext cx="1427040" cy="2519280"/>
          </a:xfrm>
          <a:custGeom>
            <a:avLst/>
            <a:gdLst>
              <a:gd name="textAreaLeft" fmla="*/ 0 w 1427040"/>
              <a:gd name="textAreaRight" fmla="*/ 1001160 w 1427040"/>
              <a:gd name="textAreaTop" fmla="*/ 629640 h 2519280"/>
              <a:gd name="textAreaBottom" fmla="*/ 1889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492360" y="1125360"/>
                <a:ext cx="122400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771640" y="4508640"/>
                <a:ext cx="1274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321680" y="1701720"/>
                <a:ext cx="11984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915160" y="25653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58800" y="234936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6800" y="299736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24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blinds dir="vert"/>
    <p:sndAc>
      <p:stSnd>
        <p:snd r:embed="rId3" name="BB004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7640" y="4221000"/>
            <a:ext cx="66978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5000"/>
                </a:solidFill>
                <a:latin typeface="Arial Narrow"/>
                <a:cs typeface="LilyUPC"/>
              </a:rPr>
              <a:t>รูปเฟสเซอร์ไดอะแกรมแบบต่อเวกเตอร์</a:t>
            </a:r>
            <a:endParaRPr b="0" lang="en-US" sz="32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การรวมเวกเตอร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76720" y="1052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2360" y="3357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795640" y="1267920"/>
            <a:ext cx="863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140000" y="1268280"/>
            <a:ext cx="165564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211640" y="2565000"/>
            <a:ext cx="2448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3992000">
            <a:off x="5297760" y="775440"/>
            <a:ext cx="601920" cy="1006560"/>
          </a:xfrm>
          <a:custGeom>
            <a:avLst/>
            <a:gdLst>
              <a:gd name="textAreaLeft" fmla="*/ 0 w 601920"/>
              <a:gd name="textAreaRight" fmla="*/ 422280 w 601920"/>
              <a:gd name="textAreaTop" fmla="*/ 251640 h 1006560"/>
              <a:gd name="textAreaBottom" fmla="*/ 754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26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6000" y="9079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6084720" y="1268280"/>
                <a:ext cx="1224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665964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0701800">
            <a:off x="6012000" y="2852640"/>
            <a:ext cx="236520" cy="505080"/>
          </a:xfrm>
          <a:custGeom>
            <a:avLst/>
            <a:gdLst>
              <a:gd name="textAreaLeft" fmla="*/ 0 w 236520"/>
              <a:gd name="textAreaRight" fmla="*/ 165960 w 2365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443640" y="2708280"/>
                <a:ext cx="11984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059280" y="3357720"/>
                <a:ext cx="1274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564000" y="3716280"/>
                <a:ext cx="1351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 rot="18100200">
            <a:off x="6785640" y="1934280"/>
            <a:ext cx="473040" cy="868320"/>
          </a:xfrm>
          <a:custGeom>
            <a:avLst/>
            <a:gdLst>
              <a:gd name="textAreaLeft" fmla="*/ 0 w 473040"/>
              <a:gd name="textAreaRight" fmla="*/ 331920 w 473040"/>
              <a:gd name="textAreaTop" fmla="*/ 217080 h 868320"/>
              <a:gd name="textAreaBottom" fmla="*/ 651240 h 86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 rot="5158200">
            <a:off x="5012280" y="3065400"/>
            <a:ext cx="357120" cy="1079280"/>
          </a:xfrm>
          <a:custGeom>
            <a:avLst/>
            <a:gdLst>
              <a:gd name="textAreaLeft" fmla="*/ 0 w 357120"/>
              <a:gd name="textAreaRight" fmla="*/ 250560 w 357120"/>
              <a:gd name="textAreaTop" fmla="*/ 269640 h 1079280"/>
              <a:gd name="textAreaBottom" fmla="*/ 80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85720" y="11970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24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25720" y="22050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08720" y="2997360"/>
            <a:ext cx="4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42800" y="328464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1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blinds dir="vert"/>
    <p:sndAc>
      <p:stSnd>
        <p:snd r:embed="rId3" name="BB004.WAV"/>
      </p:stSnd>
    </p:sndAc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692000" y="691920"/>
            <a:ext cx="698508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>
                <a:solidFill>
                  <a:srgbClr val="005000"/>
                </a:solidFill>
                <a:latin typeface="Arial"/>
                <a:cs typeface="LilyUPC"/>
              </a:rPr>
              <a:t>ใช้สี่เหลี่ยมด้านขนานรวมเวกเตอร์</a:t>
            </a:r>
            <a:r>
              <a:rPr b="1" lang="en-US" sz="3200" spc="-1" strike="noStrike">
                <a:solidFill>
                  <a:srgbClr val="005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เป็นวิธีการนำปริมาณไฟฟ้าในรูปเวกเตอร์ครั้งละหนึ่งคู่มารวมกัน นำผลลัพธ์เวกเตอร์ที่ได้ไปสร้างสี่เหลี่ยมใหม่กับเวกเตอร์อีกค่าหนึ่ง ทำเช่นนี้ไปเรื่อย ๆ จนหม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93600" y="5805360"/>
            <a:ext cx="62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5000"/>
                </a:solidFill>
                <a:latin typeface="Arial"/>
                <a:cs typeface="LilyUPC"/>
              </a:rPr>
              <a:t>รูปใช้สี่เหลี่ยมด้านขนานรวมเวกเตอร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การรวมเวกเตอร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54840" y="5084640"/>
            <a:ext cx="35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วกเตอร์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และ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05680" y="5013360"/>
            <a:ext cx="34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หาผลรวมเวกเตอร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63200" y="5300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26840" y="5300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4365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268360" y="3429000"/>
            <a:ext cx="935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780000" y="4437000"/>
                <a:ext cx="11984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556000" y="2997360"/>
                <a:ext cx="11221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 rot="20701800">
            <a:off x="2766600" y="3927600"/>
            <a:ext cx="220680" cy="434880"/>
          </a:xfrm>
          <a:custGeom>
            <a:avLst/>
            <a:gdLst>
              <a:gd name="textAreaLeft" fmla="*/ 0 w 220680"/>
              <a:gd name="textAreaRight" fmla="*/ 154800 w 220680"/>
              <a:gd name="textAreaTop" fmla="*/ 108720 h 434880"/>
              <a:gd name="textAreaBottom" fmla="*/ 326160 h 43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84360" y="3933720"/>
            <a:ext cx="46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508720" y="3500280"/>
            <a:ext cx="792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08720" y="436572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508720" y="3500280"/>
            <a:ext cx="2808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00720" y="3500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596360" y="3573360"/>
            <a:ext cx="72072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0701800">
            <a:off x="6587640" y="4005000"/>
            <a:ext cx="228600" cy="322200"/>
          </a:xfrm>
          <a:custGeom>
            <a:avLst/>
            <a:gdLst>
              <a:gd name="textAreaLeft" fmla="*/ 0 w 228600"/>
              <a:gd name="textAreaRight" fmla="*/ 160560 w 228600"/>
              <a:gd name="textAreaTop" fmla="*/ 80640 h 322200"/>
              <a:gd name="textAreaBottom" fmla="*/ 24192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03880" y="40053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236000" y="4437000"/>
                <a:ext cx="11984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35640" y="3068640"/>
                <a:ext cx="112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629480" y="3068640"/>
                <a:ext cx="1263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vert"/>
    <p:sndAc>
      <p:stSnd>
        <p:snd r:embed="rId3" name="BB004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907640" y="1268280"/>
            <a:ext cx="655164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005000"/>
                </a:solidFill>
                <a:latin typeface="Angsana New"/>
                <a:cs typeface="LilyUPC"/>
              </a:rPr>
              <a:t>วิธีแตกเวกเตอร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วิธีการนำปริมาณไฟฟ้าในรูปเวกเตอร์แต่ละสัญญาณมาแตกเวกเตอร์ออกให้อยู่ในแนวแก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x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ละแก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y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20880" y="5877000"/>
            <a:ext cx="43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5000"/>
                </a:solidFill>
                <a:latin typeface="Angsana New"/>
                <a:cs typeface="LilyUPC"/>
              </a:rPr>
              <a:t>รูปการใช้วิธีแตกเวกเตอร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วิธีแตกเวกเตอร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24000" y="335772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08000" y="4795920"/>
            <a:ext cx="201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124000" y="3573360"/>
            <a:ext cx="1440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20701800">
            <a:off x="2700360" y="4292640"/>
            <a:ext cx="216000" cy="430200"/>
          </a:xfrm>
          <a:custGeom>
            <a:avLst/>
            <a:gdLst>
              <a:gd name="textAreaLeft" fmla="*/ 0 w 216000"/>
              <a:gd name="textAreaRight" fmla="*/ 151560 w 216000"/>
              <a:gd name="textAreaTop" fmla="*/ 107640 h 430200"/>
              <a:gd name="textAreaBottom" fmla="*/ 32292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76440" y="4365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7076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21200" y="5229360"/>
            <a:ext cx="34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วกเตอร์แรงดัน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12000" y="3213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0000" y="472428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12000" y="3573000"/>
            <a:ext cx="1439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1164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51640" y="3645000"/>
            <a:ext cx="0" cy="1079280"/>
          </a:xfrm>
          <a:prstGeom prst="line">
            <a:avLst/>
          </a:prstGeom>
          <a:ln w="9360">
            <a:solidFill>
              <a:srgbClr val="6f801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031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003640" y="3429000"/>
                <a:ext cx="841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 sin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6300720" y="4941720"/>
                <a:ext cx="89208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 cos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 rot="20701800">
            <a:off x="6588000" y="4221000"/>
            <a:ext cx="290520" cy="439920"/>
          </a:xfrm>
          <a:custGeom>
            <a:avLst/>
            <a:gdLst>
              <a:gd name="textAreaLeft" fmla="*/ 0 w 290520"/>
              <a:gd name="textAreaRight" fmla="*/ 203760 w 29052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28000" y="4508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5229360"/>
            <a:ext cx="63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วกเตอร์แตกในแนวแกน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X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และแกน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35720" y="4292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flipV="1">
            <a:off x="6012000" y="3573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2000" y="472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866560" y="285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blinds dir="vert"/>
    <p:sndAc>
      <p:stSnd>
        <p:snd r:embed="rId3" name="TOKYO_5FGREEN_5F82BPM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280" y="691920"/>
            <a:ext cx="5999400" cy="93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005000"/>
                </a:solidFill>
                <a:latin typeface="Arial"/>
                <a:cs typeface="KodchiangUPC"/>
              </a:rPr>
              <a:t>เวกเตอร์</a:t>
            </a:r>
            <a:endParaRPr b="0" lang="en-US" sz="4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2133720"/>
            <a:ext cx="72234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17480"/>
                <a:tab algn="l" pos="98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คือสัญลักษณ์ที่ใช้แทนปริมาณไฟฟ้าด้วยหัวลูกศร ความยาวของลูกศรและทิศทางที่เกิด นำไปใช้แทนได้ทั้งขนาด กำลัง และทิศทางที่เกิดของแรงดัน กระแส และกำลังงาน ใช้ความยาวของเส้นตรงแทนขนาด หัวลูกศรแทนทิศทา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วกเตอร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blinds dir="vert"/>
    <p:sndAc>
      <p:stSnd>
        <p:snd r:embed="rId3" name="BB004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6880" y="5157360"/>
            <a:ext cx="8186760" cy="96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>
                <a:solidFill>
                  <a:srgbClr val="005000"/>
                </a:solidFill>
                <a:latin typeface="Arial"/>
                <a:cs typeface="LilyUPC"/>
              </a:rPr>
              <a:t>รูปเวกเตอร์บอกขนาดและทิศทางของปริมาณไฟฟ้า</a:t>
            </a:r>
            <a:endParaRPr b="0" lang="en-US" sz="3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240" y="2133720"/>
            <a:ext cx="22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สัญลักษณ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02040" y="41497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ขนาดแรงดั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34080" y="414972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ค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ขนาดและทิศทางกระแส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วกเตอร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198900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3284640"/>
            <a:ext cx="26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3789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867280" y="2204640"/>
            <a:ext cx="230364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48360" y="1773000"/>
            <a:ext cx="936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580000" y="278136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342900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85080" y="1844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309200">
            <a:off x="6326640" y="2349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I=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46640" y="342900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645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52120" y="34290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E=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00280"/>
            <a:ext cx="287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14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 rot="19455000">
            <a:off x="3243240" y="140760"/>
            <a:ext cx="129780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591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59188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6320" y="112536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ทิศทางเคลื่อนที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03880" y="14842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เวกเตอร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 rot="19291200">
            <a:off x="6217200" y="2800800"/>
            <a:ext cx="489600" cy="109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591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59188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blinds dir="vert"/>
    <p:sndAc>
      <p:stSnd>
        <p:snd r:embed="rId3" name="BB004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4000" y="476280"/>
            <a:ext cx="62150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005000"/>
                </a:solidFill>
                <a:latin typeface="Angsana New"/>
                <a:cs typeface="KodchiangUPC"/>
              </a:rPr>
              <a:t>เฟส</a:t>
            </a:r>
            <a:endParaRPr b="0" lang="en-US" sz="48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19280" y="1483920"/>
            <a:ext cx="7128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คือความแตกต่างกันของเวลาหรือมุมที่เกิดสัญญาณไฟฟ้ากระแสสลับมากกว่าหนึ่งสัญญา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70200" y="5661000"/>
            <a:ext cx="83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5000"/>
                </a:solidFill>
                <a:latin typeface="Angsana New"/>
                <a:cs typeface="LilyUPC"/>
              </a:rPr>
              <a:t>รูปคลื่นไซน์ </a:t>
            </a:r>
            <a:r>
              <a:rPr b="1" i="1" lang="th-TH" sz="3200" spc="-1" strike="noStrike">
                <a:solidFill>
                  <a:srgbClr val="005000"/>
                </a:solidFill>
                <a:latin typeface="Angsana New"/>
                <a:ea typeface="LilyUPC"/>
              </a:rPr>
              <a:t>2 </a:t>
            </a:r>
            <a:r>
              <a:rPr b="1" i="1" lang="th-TH" sz="3200" spc="-1" strike="noStrike">
                <a:solidFill>
                  <a:srgbClr val="005000"/>
                </a:solidFill>
                <a:latin typeface="Angsana New"/>
                <a:cs typeface="LilyUPC"/>
              </a:rPr>
              <a:t>สัญญาณที่เกิดขึ้นมีเฟสต่างกัน </a:t>
            </a:r>
            <a:r>
              <a:rPr b="1" i="1" lang="en-US" sz="3200" spc="-1" strike="noStrike">
                <a:solidFill>
                  <a:srgbClr val="005000"/>
                </a:solidFill>
                <a:latin typeface="Angsana New"/>
                <a:ea typeface="LilyUPC"/>
              </a:rPr>
              <a:t>90</a:t>
            </a:r>
            <a:r>
              <a:rPr b="1" lang="en-US" sz="3200" spc="-1" strike="noStrike">
                <a:solidFill>
                  <a:srgbClr val="005000"/>
                </a:solidFill>
                <a:latin typeface="Angsana New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987640" y="2637000"/>
            <a:ext cx="4608720" cy="280800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30000">
    <p:blinds dir="vert"/>
    <p:sndAc>
      <p:stSnd>
        <p:snd r:embed="rId4" name="BB004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619280" y="1483920"/>
            <a:ext cx="7129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ากเป็นเฟสนำหน้า จะถูกแทนด้วยเครื่องหมายบวก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+)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ากเป็นเฟสล้าหลัง จะถูกแทนด้วยเครื่องหมายลบ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005000"/>
                </a:solidFill>
                <a:latin typeface="Angsana New"/>
                <a:cs typeface="LilyUPC"/>
              </a:rPr>
              <a:t>เฟสเหมือนกั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คือรูปคลื่นไฟสลับสองสัญญาณเกิดขึ้นพร้อมกัน จะมีความแรงเท่ากันหรือต่างกันก็ได้ แต่ต้องมีทิศทางการเกิดคลื่นเหมือนก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blinds dir="vert"/>
    <p:sndAc>
      <p:stSnd>
        <p:snd r:embed="rId3" name="BB004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124000" y="3716280"/>
            <a:ext cx="6553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799"/>
              </a:spcBef>
              <a:buNone/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5000"/>
                </a:solidFill>
                <a:latin typeface="Arial"/>
                <a:ea typeface="LilyUPC"/>
              </a:rPr>
              <a:t>	</a:t>
            </a:r>
            <a:r>
              <a:rPr b="1" i="1" lang="en-US" sz="3200" spc="-1" strike="noStrike">
                <a:solidFill>
                  <a:srgbClr val="005000"/>
                </a:solidFill>
                <a:latin typeface="Arial"/>
                <a:ea typeface="LilyUPC"/>
              </a:rPr>
              <a:t>	</a:t>
            </a:r>
            <a:r>
              <a:rPr b="1" i="1" lang="en-US" sz="3200" spc="-1" strike="noStrike">
                <a:solidFill>
                  <a:srgbClr val="005000"/>
                </a:solidFill>
                <a:latin typeface="Arial"/>
                <a:ea typeface="LilyUPC"/>
              </a:rPr>
              <a:t>	</a:t>
            </a:r>
            <a:r>
              <a:rPr b="1" i="1" lang="en-US" sz="3200" spc="-1" strike="noStrike">
                <a:solidFill>
                  <a:srgbClr val="005000"/>
                </a:solidFill>
                <a:latin typeface="Arial"/>
                <a:ea typeface="LilyUPC"/>
              </a:rPr>
              <a:t>       </a:t>
            </a:r>
            <a:r>
              <a:rPr b="1" i="1" lang="hi-IN" sz="3200" spc="-1" strike="noStrike">
                <a:solidFill>
                  <a:srgbClr val="005000"/>
                </a:solidFill>
                <a:latin typeface="Arial"/>
                <a:cs typeface="LilyUPC"/>
              </a:rPr>
              <a:t>รูปคลื่นไซน์มีเฟสเหมือนก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เขียนสมการแรงดันและกระแสออกมาได้ดังนี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828960" y="5084640"/>
                <a:ext cx="20401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ω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ω 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059280" y="765000"/>
            <a:ext cx="4321080" cy="288000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30000">
    <p:blinds dir="vert"/>
    <p:sndAc>
      <p:stSnd>
        <p:snd r:embed="rId4" name="BB004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834920" y="1628640"/>
            <a:ext cx="662436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>
                <a:solidFill>
                  <a:srgbClr val="005000"/>
                </a:solidFill>
                <a:latin typeface="Arial"/>
                <a:cs typeface="LilyUPC"/>
              </a:rPr>
              <a:t>เฟสตรงข้ามกั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คือรูปคลื่นไฟสลับสองสัญญาณเกิดขึ้นพร้อมกัน   มีความแรงเท่ากันหรือต่างกันก็ได้ แต่ต้องมีทิศทางการเกิดคลื่นตรงข้ามก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blinds dir="vert"/>
    <p:sndAc>
      <p:stSnd>
        <p:snd r:embed="rId3" name="BB004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39640" y="3716280"/>
            <a:ext cx="583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000"/>
                </a:solidFill>
                <a:latin typeface="Arial"/>
                <a:ea typeface="LilyUPC"/>
              </a:rPr>
              <a:t>	</a:t>
            </a:r>
            <a:r>
              <a:rPr b="1" i="1" lang="en-US" sz="3200" spc="-1" strike="noStrike">
                <a:solidFill>
                  <a:srgbClr val="005000"/>
                </a:solidFill>
                <a:latin typeface="Arial"/>
                <a:ea typeface="LilyUPC"/>
              </a:rPr>
              <a:t>	</a:t>
            </a:r>
            <a:r>
              <a:rPr b="1" i="1" lang="hi-IN" sz="3200" spc="-1" strike="noStrike">
                <a:solidFill>
                  <a:srgbClr val="005000"/>
                </a:solidFill>
                <a:latin typeface="Arial"/>
                <a:cs typeface="LilyUPC"/>
              </a:rPr>
              <a:t>รูปคลื่นไซน์มีเฟสตรงข้ามก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เขียนสมการแรงดันและกระแสออกมาได้ดังนี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780000" y="5157720"/>
                <a:ext cx="1873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ω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1187280" y="0"/>
            <a:ext cx="567072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987640" y="765000"/>
            <a:ext cx="4176720" cy="288000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30000">
    <p:blinds dir="vert"/>
    <p:sndAc>
      <p:stSnd>
        <p:snd r:embed="rId4" name="BB004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58920" y="0"/>
            <a:ext cx="7885080" cy="6858000"/>
          </a:xfrm>
          <a:prstGeom prst="rect">
            <a:avLst/>
          </a:prstGeom>
          <a:gradFill rotWithShape="0">
            <a:gsLst>
              <a:gs pos="0">
                <a:srgbClr val="993300">
                  <a:alpha val="47058"/>
                </a:srgbClr>
              </a:gs>
              <a:gs pos="50000">
                <a:srgbClr val="ffffff"/>
              </a:gs>
              <a:gs pos="100000">
                <a:srgbClr val="993300">
                  <a:alpha val="4705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/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76000" y="549000"/>
            <a:ext cx="734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005000"/>
                </a:solidFill>
                <a:latin typeface="Arial"/>
                <a:cs typeface="LilyUPC"/>
              </a:rPr>
              <a:t>เฟสเลื่อน</a:t>
            </a:r>
            <a:br>
              <a:rPr sz="4800"/>
            </a:br>
            <a:r>
              <a:rPr b="1" lang="en-US" sz="4000" spc="-1" strike="noStrike">
                <a:solidFill>
                  <a:srgbClr val="dceaae"/>
                </a:solidFill>
                <a:latin typeface="Arial"/>
              </a:rPr>
              <a:t>	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คือรูปคลื่นไฟสลับสองสัญญาณเกิดขึ้นในเวลาไม่พร้อมกัน</a:t>
            </a:r>
            <a:r>
              <a:rPr b="1" i="1" lang="en-US" sz="24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endParaRPr b="0" lang="en-US" sz="2400" spc="-1" strike="noStrike">
              <a:solidFill>
                <a:srgbClr val="dceaa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156360" y="4076640"/>
                <a:ext cx="2592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ω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782360" y="602136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เฟสเลื่อนนำหน้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0"/>
            <a:ext cx="5670360" cy="3988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และเฟสเซอร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rial Narrow"/>
                <a:cs typeface="EucrosiaUPC"/>
              </a:rPr>
              <a:t>เฟ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9240" y="2276640"/>
            <a:ext cx="38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5000"/>
                </a:solidFill>
                <a:latin typeface="Angsana New"/>
                <a:cs typeface="LilyUPC"/>
              </a:rPr>
              <a:t>รูปคลื่นไซน์มีเฟสเลื่อ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692360" y="3068640"/>
            <a:ext cx="4032000" cy="280836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30000">
    <p:blinds dir="vert"/>
    <p:sndAc>
      <p:stSnd>
        <p:snd r:embed="rId4" name="BB004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4:50:29Z</dcterms:created>
  <dc:creator>ADMIN</dc:creator>
  <dc:description/>
  <dc:language>en-US</dc:language>
  <cp:lastModifiedBy>พี่อุอุ๊</cp:lastModifiedBy>
  <dcterms:modified xsi:type="dcterms:W3CDTF">2005-11-14T02:38:03Z</dcterms:modified>
  <cp:revision>45</cp:revision>
  <dc:subject/>
  <dc:title>งานนำเสนอ PowerPoint</dc:title>
</cp:coreProperties>
</file>